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B56-BFCB-453D-83C9-3CB2B717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6A8-26D1-4F01-918B-CBA238F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013-85DF-4300-A1F2-052219EF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71C-B67A-47BC-B4D6-E9CC83D3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737-A348-4C3A-9AF8-2C6C562C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972-15DF-41C3-AC0C-A49A6E2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12F-96B8-487B-8ACB-F369733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B96-4419-47CB-B5BD-D51D0AE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AC9-3AD9-46D0-A83D-92EEA12F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7CF-B845-4BCA-BEB9-83F95B8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259-3831-4D7D-856C-11FA72F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95D-278F-48F7-8843-5164AB4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A21-BA23-465C-A49A-7C38755015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Nd9GcSGJKBP0nWcyuzvgZV7hwqPq93OQdhU69JKKms1tMN3WbRwxY0&amp;t=1&amp;usg=__s_sN5diorkhRwTVFlw6KTJt3WlE="/>
          <p:cNvPicPr/>
          <p:nvPr/>
        </p:nvPicPr>
        <p:blipFill>
          <a:blip r:embed="rId1"/>
          <a:stretch/>
        </p:blipFill>
        <p:spPr>
          <a:xfrm>
            <a:off x="0" y="189000"/>
            <a:ext cx="9972720" cy="72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i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ordenadora do Projeto “Além das Palav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55520" y="46080"/>
            <a:ext cx="11905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Nd9GcRJGTO_7MO-QCvaOw4---NYC2VT-Ri9S_QZAkEUgj5hRoEsy8I&amp;t=1&amp;usg=__iORyjraDs92cKEOcsjUMD_5Zims=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Nd9GcTdSH-S3SMrdMQI0kr13feHVGhAXIrq3TOfwmcMiZghhJk6K8E&amp;t=1&amp;usg=__DzPdltCdHI3QIiYXFZ6sHPbKR-M="/>
          <p:cNvPicPr/>
          <p:nvPr/>
        </p:nvPicPr>
        <p:blipFill>
          <a:blip r:embed="rId1"/>
          <a:stretch/>
        </p:blipFill>
        <p:spPr>
          <a:xfrm>
            <a:off x="0" y="-28440"/>
            <a:ext cx="9396360" cy="785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...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 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Que conhece o que é verdade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 amor é bom, não quer o mal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Não sente inveja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u se envaid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aisag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amor é o fog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e arde sem se ver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ferida que dói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não se sen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um contentament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conten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dor que desatina sem doer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isagens_01"/>
          <p:cNvPicPr/>
          <p:nvPr/>
        </p:nvPicPr>
        <p:blipFill>
          <a:blip r:embed="rId1"/>
          <a:stretch/>
        </p:blipFill>
        <p:spPr>
          <a:xfrm>
            <a:off x="0" y="-963720"/>
            <a:ext cx="9683640" cy="7461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-181080" y="259200"/>
            <a:ext cx="659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8_foto_golfinho_1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-462600"/>
            <a:ext cx="334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content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e perder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ar"/>
          <p:cNvPicPr/>
          <p:nvPr/>
        </p:nvPicPr>
        <p:blipFill>
          <a:blip r:embed="rId1"/>
          <a:stretch/>
        </p:blipFill>
        <p:spPr>
          <a:xfrm>
            <a:off x="0" y="549360"/>
            <a:ext cx="9396360" cy="7821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3211920"/>
            <a:ext cx="8486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estar-se pres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vontad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ervir a quem venc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encedo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ter com quem nos mata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ealdad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ão contrário a si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o mesmo amor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aisagem+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79280" y="2831400"/>
            <a:ext cx="86472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stou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cordad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todos dormem, todos dormem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dos dormem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gora vejo em part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e conhece o que é verdade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aisagens Imagens De Paisagens Em Papel De Pare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2987280" y="2354760"/>
            <a:ext cx="526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amor, eu nada seria..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44:14Z</dcterms:created>
  <dc:creator>SEDMS</dc:creator>
  <dc:description/>
  <dc:language>en-US</dc:language>
  <cp:lastModifiedBy>ACER</cp:lastModifiedBy>
  <dcterms:modified xsi:type="dcterms:W3CDTF">2010-10-19T21:55:14Z</dcterms:modified>
  <cp:revision>2</cp:revision>
  <dc:subject/>
  <dc:title>silene</dc:title>
</cp:coreProperties>
</file>